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0F59-A7EB-4B5D-B13A-3AD123F0E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53D1-F20C-433A-AF98-B52AC136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DE9D-242C-4CE5-9C24-3B639A57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6F56-CE18-4EAD-8703-7A5ED4986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DC7B-3E08-4AA5-B090-1CDE8D21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A1DA-D793-40AD-B9DC-55DF3FB3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58DE-9890-421C-B40D-5AA477BA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D7AC-F7A2-4310-9DE2-3785470E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C595-7076-4002-9D28-1632B9EA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41C5-F7D3-42D2-82DE-386A5A87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F49C-A317-4227-BD00-E85084A7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5DCA-CF85-41A6-9476-4F7EB813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1553-1DB0-45ED-A58F-A9D71ABC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282B-1BC1-4D22-8AA7-66C84AAD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689F-E9A7-4B11-A746-A1B4C156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1E82-A6E0-44E6-88E9-50846B786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0D1F-4049-4BA9-9DF3-7DA5D442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2A3E-62A9-443F-91A1-3ADC4902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D784-C66A-44FA-9AD7-D64EFEC9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3ADB-6D6E-4E05-B46E-803B9E50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573C-B6CC-42BE-96EA-E5B2CE84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443A-0F1D-4A57-82CC-BDCB0505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3778-AAF2-442B-B6E0-101799E1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6638-25D1-44D9-81C8-457768DA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99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3A71-B469-4801-A27E-117697099208}" type="slidenum">
              <a:rPr b="0" lang="fr-FR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1D15-F151-43E8-A9DB-237C536A11A7}" type="slidenum">
              <a:rPr b="0" lang="fr-FR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99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266480"/>
            <a:ext cx="73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biothérapie d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ections urinaire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95680" y="5299200"/>
            <a:ext cx="42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 d’antibiothérapie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Objectifs de l'antibiothérapi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Infections urinaires bass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obtenir une concentration élevée d’antibiotique dans les urin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Infections urinaires haut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obtenir une concentration parenchymateuse élevée et une élimination urinaire suffisa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07880" y="609120"/>
            <a:ext cx="768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cologie microbienne des IU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85800" y="2133720"/>
            <a:ext cx="8380800" cy="4647240"/>
            <a:chOff x="685800" y="2133720"/>
            <a:chExt cx="8380800" cy="4647240"/>
          </a:xfrm>
        </p:grpSpPr>
        <p:grpSp>
          <p:nvGrpSpPr>
            <p:cNvPr id="316" name=""/>
            <p:cNvGrpSpPr/>
            <p:nvPr/>
          </p:nvGrpSpPr>
          <p:grpSpPr>
            <a:xfrm>
              <a:off x="685800" y="2133720"/>
              <a:ext cx="4360320" cy="724320"/>
              <a:chOff x="685800" y="2133720"/>
              <a:chExt cx="4360320" cy="724320"/>
            </a:xfrm>
          </p:grpSpPr>
          <p:sp>
            <p:nvSpPr>
              <p:cNvPr id="317" name=""/>
              <p:cNvSpPr/>
              <p:nvPr/>
            </p:nvSpPr>
            <p:spPr>
              <a:xfrm>
                <a:off x="768240" y="2133720"/>
                <a:ext cx="4194360" cy="72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85800" y="2133720"/>
                <a:ext cx="4360320" cy="72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046480" y="2133720"/>
              <a:ext cx="1339920" cy="724320"/>
              <a:chOff x="5046480" y="2133720"/>
              <a:chExt cx="1339920" cy="724320"/>
            </a:xfrm>
          </p:grpSpPr>
          <p:sp>
            <p:nvSpPr>
              <p:cNvPr id="320" name=""/>
              <p:cNvSpPr/>
              <p:nvPr/>
            </p:nvSpPr>
            <p:spPr>
              <a:xfrm>
                <a:off x="5128920" y="2133720"/>
                <a:ext cx="1173960" cy="72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Ville 1</a:t>
                </a:r>
                <a:r>
                  <a:rPr b="1" lang="en-US" sz="2000" spc="-1" strike="noStrike" baseline="30000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er</a:t>
                </a: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 épisod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46480" y="2133720"/>
                <a:ext cx="1339920" cy="72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386760" y="2133720"/>
              <a:ext cx="1339200" cy="724320"/>
              <a:chOff x="6386760" y="2133720"/>
              <a:chExt cx="1339200" cy="724320"/>
            </a:xfrm>
          </p:grpSpPr>
          <p:sp>
            <p:nvSpPr>
              <p:cNvPr id="323" name=""/>
              <p:cNvSpPr/>
              <p:nvPr/>
            </p:nvSpPr>
            <p:spPr>
              <a:xfrm>
                <a:off x="6469200" y="2133720"/>
                <a:ext cx="1173960" cy="72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Ville récidiv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386760" y="2133720"/>
                <a:ext cx="1339200" cy="72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726680" y="2133720"/>
              <a:ext cx="1339920" cy="724320"/>
              <a:chOff x="7726680" y="2133720"/>
              <a:chExt cx="1339920" cy="724320"/>
            </a:xfrm>
          </p:grpSpPr>
          <p:sp>
            <p:nvSpPr>
              <p:cNvPr id="326" name=""/>
              <p:cNvSpPr/>
              <p:nvPr/>
            </p:nvSpPr>
            <p:spPr>
              <a:xfrm>
                <a:off x="7809840" y="2133720"/>
                <a:ext cx="1173600" cy="72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Hôpital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726680" y="2133720"/>
                <a:ext cx="1339920" cy="72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685800" y="2858400"/>
              <a:ext cx="4360320" cy="559800"/>
              <a:chOff x="685800" y="2858400"/>
              <a:chExt cx="4360320" cy="559800"/>
            </a:xfrm>
          </p:grpSpPr>
          <p:sp>
            <p:nvSpPr>
              <p:cNvPr id="329" name=""/>
              <p:cNvSpPr/>
              <p:nvPr/>
            </p:nvSpPr>
            <p:spPr>
              <a:xfrm>
                <a:off x="768240" y="285840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E. coli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85800" y="285840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5046480" y="2858400"/>
              <a:ext cx="1339920" cy="559800"/>
              <a:chOff x="5046480" y="2858400"/>
              <a:chExt cx="1339920" cy="559800"/>
            </a:xfrm>
          </p:grpSpPr>
          <p:sp>
            <p:nvSpPr>
              <p:cNvPr id="332" name=""/>
              <p:cNvSpPr/>
              <p:nvPr/>
            </p:nvSpPr>
            <p:spPr>
              <a:xfrm>
                <a:off x="5128920" y="285840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85-9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046480" y="285840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6386760" y="2858400"/>
              <a:ext cx="1339200" cy="559800"/>
              <a:chOff x="6386760" y="2858400"/>
              <a:chExt cx="1339200" cy="559800"/>
            </a:xfrm>
          </p:grpSpPr>
          <p:sp>
            <p:nvSpPr>
              <p:cNvPr id="335" name=""/>
              <p:cNvSpPr/>
              <p:nvPr/>
            </p:nvSpPr>
            <p:spPr>
              <a:xfrm>
                <a:off x="6469200" y="285840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68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386760" y="285840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7726680" y="2858400"/>
              <a:ext cx="1339920" cy="559800"/>
              <a:chOff x="7726680" y="2858400"/>
              <a:chExt cx="1339920" cy="559800"/>
            </a:xfrm>
          </p:grpSpPr>
          <p:sp>
            <p:nvSpPr>
              <p:cNvPr id="338" name=""/>
              <p:cNvSpPr/>
              <p:nvPr/>
            </p:nvSpPr>
            <p:spPr>
              <a:xfrm>
                <a:off x="7809840" y="285840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5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726680" y="285840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685800" y="3418920"/>
              <a:ext cx="4360320" cy="559800"/>
              <a:chOff x="685800" y="3418920"/>
              <a:chExt cx="4360320" cy="559800"/>
            </a:xfrm>
          </p:grpSpPr>
          <p:sp>
            <p:nvSpPr>
              <p:cNvPr id="341" name=""/>
              <p:cNvSpPr/>
              <p:nvPr/>
            </p:nvSpPr>
            <p:spPr>
              <a:xfrm>
                <a:off x="768240" y="341892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Proteus </a:t>
                </a:r>
                <a:r>
                  <a:rPr b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s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85800" y="341892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5046480" y="3418920"/>
              <a:ext cx="1339920" cy="559800"/>
              <a:chOff x="5046480" y="3418920"/>
              <a:chExt cx="1339920" cy="559800"/>
            </a:xfrm>
          </p:grpSpPr>
          <p:sp>
            <p:nvSpPr>
              <p:cNvPr id="344" name=""/>
              <p:cNvSpPr/>
              <p:nvPr/>
            </p:nvSpPr>
            <p:spPr>
              <a:xfrm>
                <a:off x="5128920" y="341892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3-4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046480" y="341892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6386760" y="3418920"/>
              <a:ext cx="1339200" cy="559800"/>
              <a:chOff x="6386760" y="3418920"/>
              <a:chExt cx="1339200" cy="559800"/>
            </a:xfrm>
          </p:grpSpPr>
          <p:sp>
            <p:nvSpPr>
              <p:cNvPr id="347" name=""/>
              <p:cNvSpPr/>
              <p:nvPr/>
            </p:nvSpPr>
            <p:spPr>
              <a:xfrm>
                <a:off x="6469200" y="341892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9-1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386760" y="341892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7726680" y="3418920"/>
              <a:ext cx="1339920" cy="559800"/>
              <a:chOff x="7726680" y="3418920"/>
              <a:chExt cx="1339920" cy="559800"/>
            </a:xfrm>
          </p:grpSpPr>
          <p:sp>
            <p:nvSpPr>
              <p:cNvPr id="350" name=""/>
              <p:cNvSpPr/>
              <p:nvPr/>
            </p:nvSpPr>
            <p:spPr>
              <a:xfrm>
                <a:off x="7809840" y="341892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1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726680" y="341892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685800" y="3979440"/>
              <a:ext cx="4360320" cy="559800"/>
              <a:chOff x="685800" y="3979440"/>
              <a:chExt cx="4360320" cy="559800"/>
            </a:xfrm>
          </p:grpSpPr>
          <p:sp>
            <p:nvSpPr>
              <p:cNvPr id="353" name=""/>
              <p:cNvSpPr/>
              <p:nvPr/>
            </p:nvSpPr>
            <p:spPr>
              <a:xfrm>
                <a:off x="768240" y="397944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Klebsiella </a:t>
                </a:r>
                <a:r>
                  <a:rPr b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s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85800" y="397944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5046480" y="3979440"/>
              <a:ext cx="1339920" cy="559800"/>
              <a:chOff x="5046480" y="3979440"/>
              <a:chExt cx="1339920" cy="559800"/>
            </a:xfrm>
          </p:grpSpPr>
          <p:sp>
            <p:nvSpPr>
              <p:cNvPr id="356" name=""/>
              <p:cNvSpPr/>
              <p:nvPr/>
            </p:nvSpPr>
            <p:spPr>
              <a:xfrm>
                <a:off x="5128920" y="397944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&lt;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046480" y="397944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6386760" y="3979440"/>
              <a:ext cx="1339200" cy="559800"/>
              <a:chOff x="6386760" y="3979440"/>
              <a:chExt cx="1339200" cy="559800"/>
            </a:xfrm>
          </p:grpSpPr>
          <p:sp>
            <p:nvSpPr>
              <p:cNvPr id="359" name=""/>
              <p:cNvSpPr/>
              <p:nvPr/>
            </p:nvSpPr>
            <p:spPr>
              <a:xfrm>
                <a:off x="6469200" y="397944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386760" y="397944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7726680" y="3979440"/>
              <a:ext cx="1339920" cy="559800"/>
              <a:chOff x="7726680" y="3979440"/>
              <a:chExt cx="1339920" cy="559800"/>
            </a:xfrm>
          </p:grpSpPr>
          <p:sp>
            <p:nvSpPr>
              <p:cNvPr id="362" name=""/>
              <p:cNvSpPr/>
              <p:nvPr/>
            </p:nvSpPr>
            <p:spPr>
              <a:xfrm>
                <a:off x="7809840" y="397944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1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726680" y="397944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685800" y="4539600"/>
              <a:ext cx="4360320" cy="559800"/>
              <a:chOff x="685800" y="4539600"/>
              <a:chExt cx="4360320" cy="559800"/>
            </a:xfrm>
          </p:grpSpPr>
          <p:sp>
            <p:nvSpPr>
              <p:cNvPr id="365" name=""/>
              <p:cNvSpPr/>
              <p:nvPr/>
            </p:nvSpPr>
            <p:spPr>
              <a:xfrm>
                <a:off x="768240" y="453960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Staphylococcus saprophyticu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85800" y="453960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46480" y="4539600"/>
              <a:ext cx="1339920" cy="559800"/>
              <a:chOff x="5046480" y="4539600"/>
              <a:chExt cx="1339920" cy="559800"/>
            </a:xfrm>
          </p:grpSpPr>
          <p:sp>
            <p:nvSpPr>
              <p:cNvPr id="368" name=""/>
              <p:cNvSpPr/>
              <p:nvPr/>
            </p:nvSpPr>
            <p:spPr>
              <a:xfrm>
                <a:off x="5128920" y="453960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2-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046480" y="453960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6386760" y="4539600"/>
              <a:ext cx="1339200" cy="559800"/>
              <a:chOff x="6386760" y="4539600"/>
              <a:chExt cx="1339200" cy="559800"/>
            </a:xfrm>
          </p:grpSpPr>
          <p:sp>
            <p:nvSpPr>
              <p:cNvPr id="371" name=""/>
              <p:cNvSpPr/>
              <p:nvPr/>
            </p:nvSpPr>
            <p:spPr>
              <a:xfrm>
                <a:off x="6469200" y="453960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386760" y="453960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7726680" y="4539600"/>
              <a:ext cx="1339920" cy="559800"/>
              <a:chOff x="7726680" y="4539600"/>
              <a:chExt cx="1339920" cy="559800"/>
            </a:xfrm>
          </p:grpSpPr>
          <p:sp>
            <p:nvSpPr>
              <p:cNvPr id="374" name=""/>
              <p:cNvSpPr/>
              <p:nvPr/>
            </p:nvSpPr>
            <p:spPr>
              <a:xfrm>
                <a:off x="7809840" y="453960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726680" y="453960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685800" y="5100120"/>
              <a:ext cx="4360320" cy="559800"/>
              <a:chOff x="685800" y="5100120"/>
              <a:chExt cx="4360320" cy="559800"/>
            </a:xfrm>
          </p:grpSpPr>
          <p:sp>
            <p:nvSpPr>
              <p:cNvPr id="377" name=""/>
              <p:cNvSpPr/>
              <p:nvPr/>
            </p:nvSpPr>
            <p:spPr>
              <a:xfrm>
                <a:off x="768240" y="510012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Enterococcus s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85800" y="510012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5046480" y="5100120"/>
              <a:ext cx="1339920" cy="559800"/>
              <a:chOff x="5046480" y="5100120"/>
              <a:chExt cx="1339920" cy="559800"/>
            </a:xfrm>
          </p:grpSpPr>
          <p:sp>
            <p:nvSpPr>
              <p:cNvPr id="380" name=""/>
              <p:cNvSpPr/>
              <p:nvPr/>
            </p:nvSpPr>
            <p:spPr>
              <a:xfrm>
                <a:off x="5128920" y="510012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046480" y="510012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6386760" y="5100120"/>
              <a:ext cx="1339200" cy="559800"/>
              <a:chOff x="6386760" y="5100120"/>
              <a:chExt cx="1339200" cy="559800"/>
            </a:xfrm>
          </p:grpSpPr>
          <p:sp>
            <p:nvSpPr>
              <p:cNvPr id="383" name=""/>
              <p:cNvSpPr/>
              <p:nvPr/>
            </p:nvSpPr>
            <p:spPr>
              <a:xfrm>
                <a:off x="6469200" y="510012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4-5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386760" y="510012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7726680" y="5100120"/>
              <a:ext cx="1339920" cy="559800"/>
              <a:chOff x="7726680" y="5100120"/>
              <a:chExt cx="1339920" cy="559800"/>
            </a:xfrm>
          </p:grpSpPr>
          <p:sp>
            <p:nvSpPr>
              <p:cNvPr id="386" name=""/>
              <p:cNvSpPr/>
              <p:nvPr/>
            </p:nvSpPr>
            <p:spPr>
              <a:xfrm>
                <a:off x="7809840" y="510012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726680" y="510012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685800" y="5660640"/>
              <a:ext cx="4360320" cy="559800"/>
              <a:chOff x="685800" y="5660640"/>
              <a:chExt cx="4360320" cy="559800"/>
            </a:xfrm>
          </p:grpSpPr>
          <p:sp>
            <p:nvSpPr>
              <p:cNvPr id="389" name=""/>
              <p:cNvSpPr/>
              <p:nvPr/>
            </p:nvSpPr>
            <p:spPr>
              <a:xfrm>
                <a:off x="768240" y="566064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Autres BGN </a:t>
                </a:r>
                <a:r>
                  <a:rPr b="1" lang="fr-FR" sz="1600" spc="-1" strike="noStrike">
                    <a:solidFill>
                      <a:srgbClr val="ffff99"/>
                    </a:solidFill>
                    <a:latin typeface="Arial"/>
                  </a:rPr>
                  <a:t>(klebsiella, enterobacter, serrati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85800" y="566064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5046480" y="5660640"/>
              <a:ext cx="1339920" cy="559800"/>
              <a:chOff x="5046480" y="5660640"/>
              <a:chExt cx="1339920" cy="559800"/>
            </a:xfrm>
          </p:grpSpPr>
          <p:sp>
            <p:nvSpPr>
              <p:cNvPr id="392" name=""/>
              <p:cNvSpPr/>
              <p:nvPr/>
            </p:nvSpPr>
            <p:spPr>
              <a:xfrm>
                <a:off x="5128920" y="566064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1-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046480" y="566064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6386760" y="5660640"/>
              <a:ext cx="1339200" cy="559800"/>
              <a:chOff x="6386760" y="5660640"/>
              <a:chExt cx="1339200" cy="559800"/>
            </a:xfrm>
          </p:grpSpPr>
          <p:sp>
            <p:nvSpPr>
              <p:cNvPr id="395" name=""/>
              <p:cNvSpPr/>
              <p:nvPr/>
            </p:nvSpPr>
            <p:spPr>
              <a:xfrm>
                <a:off x="6469200" y="566064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86760" y="566064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726680" y="5660640"/>
              <a:ext cx="1339920" cy="559800"/>
              <a:chOff x="7726680" y="5660640"/>
              <a:chExt cx="1339920" cy="559800"/>
            </a:xfrm>
          </p:grpSpPr>
          <p:sp>
            <p:nvSpPr>
              <p:cNvPr id="398" name=""/>
              <p:cNvSpPr/>
              <p:nvPr/>
            </p:nvSpPr>
            <p:spPr>
              <a:xfrm>
                <a:off x="7809840" y="566064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1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726680" y="566064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685800" y="6221160"/>
              <a:ext cx="4360320" cy="559800"/>
              <a:chOff x="685800" y="6221160"/>
              <a:chExt cx="4360320" cy="559800"/>
            </a:xfrm>
          </p:grpSpPr>
          <p:sp>
            <p:nvSpPr>
              <p:cNvPr id="401" name=""/>
              <p:cNvSpPr/>
              <p:nvPr/>
            </p:nvSpPr>
            <p:spPr>
              <a:xfrm>
                <a:off x="768240" y="622116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Levure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85800" y="622116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5046480" y="6221160"/>
              <a:ext cx="1339920" cy="559800"/>
              <a:chOff x="5046480" y="6221160"/>
              <a:chExt cx="1339920" cy="559800"/>
            </a:xfrm>
          </p:grpSpPr>
          <p:sp>
            <p:nvSpPr>
              <p:cNvPr id="404" name=""/>
              <p:cNvSpPr/>
              <p:nvPr/>
            </p:nvSpPr>
            <p:spPr>
              <a:xfrm>
                <a:off x="5128920" y="622116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-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046480" y="622116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6386760" y="6221160"/>
              <a:ext cx="1339200" cy="559800"/>
              <a:chOff x="6386760" y="6221160"/>
              <a:chExt cx="1339200" cy="559800"/>
            </a:xfrm>
          </p:grpSpPr>
          <p:sp>
            <p:nvSpPr>
              <p:cNvPr id="407" name=""/>
              <p:cNvSpPr/>
              <p:nvPr/>
            </p:nvSpPr>
            <p:spPr>
              <a:xfrm>
                <a:off x="6469200" y="622116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-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386760" y="622116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7726680" y="6221160"/>
              <a:ext cx="1339920" cy="559800"/>
              <a:chOff x="7726680" y="6221160"/>
              <a:chExt cx="1339920" cy="559800"/>
            </a:xfrm>
          </p:grpSpPr>
          <p:sp>
            <p:nvSpPr>
              <p:cNvPr id="410" name=""/>
              <p:cNvSpPr/>
              <p:nvPr/>
            </p:nvSpPr>
            <p:spPr>
              <a:xfrm>
                <a:off x="7809840" y="622116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726680" y="622116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809640" y="2290320"/>
            <a:ext cx="8105760" cy="41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New York"/>
                <a:ea typeface="Times New Roman"/>
              </a:rPr>
              <a:t>	</a:t>
            </a:r>
            <a:r>
              <a:rPr b="0" lang="fr-FR" sz="3600" spc="-1" strike="noStrike">
                <a:solidFill>
                  <a:srgbClr val="ffff99"/>
                </a:solidFill>
                <a:latin typeface="New York"/>
                <a:ea typeface="Times New Roman"/>
              </a:rPr>
              <a:t>Fréquences des résistances bactériennes en ville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 coli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is-à-vis d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picilline : 40-5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trimoxazole : 25-40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oxicilline-acide clavulanique : 30-40 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1307880" y="609120"/>
            <a:ext cx="768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cologie microbienne des IU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tibiotiques disponibles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Molécules ayant une élimination et une   concentration urinaire élevée (IU Bas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nitrofura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sulfam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quinolones de 1ère géné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fosfomycine-trométam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761760" y="2106720"/>
            <a:ext cx="83055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Molécules ayant une concentration parenchymateuse et une élimination urinaire élev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Aminosi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Fluoroquinol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Cotrimoxazole-trimetopr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Béta-lactamines :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pénicilline A et dérivés, carboxy-, uréïdo, amidinopénicil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Céphalosporines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de 1ère, 2ème et 3ème géné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Colimyc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tibiotiques disponibles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a colonisation urinai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09280" y="1980720"/>
            <a:ext cx="8334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Pas de trait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 le patien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it sondé ou non, diabétique, âgé ou avec une vessie neurolog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AUF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mmes enceintes (toujou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utropéniques, immunodéprimé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tuation préopératoire (chir. ou explorations urologique, pose de prothès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ient avec prothèse articulaire, vasculaire ou cardiaque subissant des manœuvres invas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pidémie à BMR dans une unité hospitaliè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YSTITES AIGUE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RAITEMEN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itement conventionnel (7 à 10jou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itement court (3 jou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itement min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320" y="5950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aitement conventionnel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1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Durée de 7 à 10 jo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ntibiotiques utilisé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7040" indent="-20556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quinolone de 1ère géné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7040" indent="-20556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nitrofura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7040" indent="-20556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trimoxaz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7040" indent="-20556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éphalosporines 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7040" indent="-20556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moxicilline + acide clavulan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685440" y="1985760"/>
            <a:ext cx="838188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n 1ère intention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floxacine, noroxine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 MG 1 cp 2x/jour pdt 5 à 10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 algn="just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ltern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loxacine, OFLOCET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00 MG 1 cp 2x/j pdt 5 à 10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fixime, OROKEN® 200 PO</a:t>
            </a:r>
            <a:r>
              <a:rPr b="0" lang="fr-FR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cp 2x/j pdt 5 à 10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-amoxiclav, AUGMENTIN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 gr  3x/j pdt 5 à 10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 algn="just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n 2nde int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trofurantoïne, FURADANTINE® 50 MG PO</a:t>
            </a:r>
            <a:r>
              <a:rPr b="0" lang="fr-FR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cp 3x/j pdt 5 à 10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trimoxazole, BACTRIM FORTE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800/160 MG 1 cp 2x/j pdt 5 à 10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title"/>
          </p:nvPr>
        </p:nvSpPr>
        <p:spPr>
          <a:xfrm>
            <a:off x="1066320" y="5950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aitement conventionnel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2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Duré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de 3 jo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Antibiotiques utilisés 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Bactrim, quinolones urina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1ère intention 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floxacine, NOROXINE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 MG 1 cp 2x/jour pdt 3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oxacine, ENOXOR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 MG 2 cp/j  pdt 3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mefloxacine, LOGIFLOX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 mg 1 cp/j  pdt 3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2nde intention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trimoxazole, BACTRIM FORTE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800/160 MG 3 cp en 1 prise uniqu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Times New Roman"/>
              </a:rPr>
              <a:t>Pour cotrimoxazole et quinolones le ttt court n’a pas d’avantage par rapport au ttt min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T court des IU bass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éfinitions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09320"/>
            <a:ext cx="8105760" cy="44960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Colonisation </a:t>
            </a:r>
            <a:r>
              <a:rPr b="0" lang="fr-FR" sz="20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bactériurie asymptomatique</a:t>
            </a:r>
            <a:r>
              <a:rPr b="0" lang="fr-FR" sz="2000" spc="-1" strike="noStrike">
                <a:solidFill>
                  <a:srgbClr val="ffff66"/>
                </a:solidFill>
                <a:latin typeface="Times New Roman"/>
              </a:rPr>
              <a:t>)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66"/>
                </a:solidFill>
                <a:latin typeface="Times New Roman"/>
              </a:rPr>
              <a:t>: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présence de germes dans l’arbre urinaire sans manifestations clini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z le patient sondé un ECBU </a:t>
            </a: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</a:t>
            </a:r>
            <a:r>
              <a:rPr b="0" lang="fr-FR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5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fc/ml (= 100% des cas après 3 semaines de sondag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z le patient non sondé présence de 2 ECBU </a:t>
            </a: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</a:t>
            </a:r>
            <a:r>
              <a:rPr b="0" lang="fr-FR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fc/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Infection urinaire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</a:t>
            </a:r>
            <a:r>
              <a:rPr b="0" lang="fr-FR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u moins 1 des signes :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fièvre, impériosité mictionnelle, pollakiurie, brûlures mictionnelles ou douleurs sus-pubien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New York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</a:t>
            </a:r>
            <a:r>
              <a:rPr b="1" lang="fr-FR" sz="20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et</a:t>
            </a:r>
            <a:r>
              <a:rPr b="0" lang="fr-FR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1 </a:t>
            </a:r>
            <a:r>
              <a:rPr b="0" lang="fr-FR" sz="1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ECBU </a:t>
            </a:r>
            <a:r>
              <a:rPr b="1" lang="fr-FR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+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: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concentration bactérienne </a:t>
            </a:r>
            <a:r>
              <a:rPr b="0" lang="fr-FR" sz="2000" spc="-1" strike="noStrike">
                <a:solidFill>
                  <a:srgbClr val="ffffcc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10</a:t>
            </a:r>
            <a:r>
              <a:rPr b="0" lang="fr-FR" sz="20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5</a:t>
            </a:r>
            <a:r>
              <a:rPr b="0" lang="fr-F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fc/m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+ leucocyturie </a:t>
            </a:r>
            <a:r>
              <a:rPr b="0" lang="fr-FR" sz="2000" spc="-1" strike="noStrike">
                <a:solidFill>
                  <a:srgbClr val="ffffcc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10</a:t>
            </a:r>
            <a:r>
              <a:rPr b="0" lang="fr-FR" sz="20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4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/ml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 positive suffit pour cystite aigüe simple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809280" y="2214360"/>
            <a:ext cx="83343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Durée :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1 seule pr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Antibiotiques utilisables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(efficacité immédiate et retardée identiqu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éflacine monodose</a:t>
            </a:r>
            <a:r>
              <a:rPr b="0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800m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iprofloxacine (Uniflox</a:t>
            </a:r>
            <a:r>
              <a:rPr b="0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 500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Ofloxacine (Monoflocet</a:t>
            </a:r>
            <a:r>
              <a:rPr b="0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 400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osfomycine-trométamol (Monuril</a:t>
            </a:r>
            <a:r>
              <a:rPr b="0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, Uridoz</a:t>
            </a:r>
            <a:r>
              <a:rPr b="0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1 sachet de 3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T minute des IU bass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809280" y="2133360"/>
            <a:ext cx="8334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emme de 15 à 65 a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bsence de fièvre ou de douleurs lomba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ymptomatologie récente </a:t>
            </a:r>
            <a:r>
              <a:rPr b="0" lang="fr-FR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3 jo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bsence d’uropathie (</a:t>
            </a:r>
            <a:r>
              <a:rPr b="0" lang="fr-FR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reflux, méga-uretère, vessie neurologique, tumeurs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bsence de grossesse en co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bsence d'intervention ou d'endoscopie urologique réc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bsence de pathologie sous-jacente (Diabète, immunosuppression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00"/>
                </a:solidFill>
                <a:latin typeface="Times New Roman"/>
              </a:rPr>
              <a:t>Dans tous les autres cas ou si échec du TT minute </a:t>
            </a:r>
            <a:r>
              <a:rPr b="0" lang="fr-FR" sz="3200" spc="-1" strike="noStrike">
                <a:solidFill>
                  <a:srgbClr val="ff6600"/>
                </a:solidFill>
                <a:latin typeface="Symbol"/>
                <a:ea typeface="Symbol"/>
              </a:rPr>
              <a:t></a:t>
            </a:r>
            <a:r>
              <a:rPr b="0" lang="fr-FR" sz="3200" spc="-1" strike="noStrike">
                <a:solidFill>
                  <a:srgbClr val="ff6600"/>
                </a:solidFill>
                <a:latin typeface="Times New Roman"/>
              </a:rPr>
              <a:t> TT convention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371600" y="609480"/>
            <a:ext cx="750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nditions d'utilisation du TT cour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t du TT minu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Règles hygiéno-diététiq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09640" y="20574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oujours associées au TT antibiot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isson abondante et réguliè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tions régulièr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de sous-vêtements en co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iter les vêtements serr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T diarrhée et constip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ilett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érinéal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’avant en arriè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ystites aiguës récidivant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Germes responsables en général plus résistants d'où nécessité d'un ECBU et d'un antibi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Traitement conventionnel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(7-10 j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Adapté à l’antibi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99"/>
                </a:solidFill>
                <a:uFillTx/>
                <a:latin typeface="Times New Roman"/>
              </a:rPr>
              <a:t>puis</a:t>
            </a: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 mesures préventives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indispensab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règles hygiéno-diétét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ntibioprophylax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bioprophylaxie des cystites récidivan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soit en prise continue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= le soir au couc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soit discontinue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(2 à 3 fois par semai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molécules utilisées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trimoxazole 80-400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itrofurantoïne 50 à 100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éfalexine 250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cide nalidixique 500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cide pipémidique 200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orfloxacine 200-400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PYELONEPHRITES</a:t>
            </a:r>
            <a:br>
              <a:rPr sz="4000"/>
            </a:b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TRAITEMEN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iqué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yélonéphrite aiguë non  compliquée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800568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Antibiotiques utilisables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luoroquinolo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B-lactam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Bactr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Aminosides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possibles en début de traitement pdt 48 à 72 heures en 1 dose /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Durée :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14-21 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6600"/>
                </a:solidFill>
                <a:latin typeface="Times New Roman"/>
              </a:rPr>
              <a:t>Réévaluation secondaire du traitement en fonction de l'antibiogramme + ECBU de contrô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809280" y="2671560"/>
            <a:ext cx="83343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éfotaxime, CLAFORAN</a:t>
            </a:r>
            <a:r>
              <a:rPr b="0" lang="fr-FR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 gr 3x/j I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ftriaxone, ROCEPHINE</a:t>
            </a:r>
            <a:r>
              <a:rPr b="0" lang="de-DE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 gr 1x/j IV/I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fixime, OROKEN</a:t>
            </a:r>
            <a:r>
              <a:rPr b="0" lang="fr-FR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00 mg 1 cp 2x/jour en relais des voies IV et I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loxacine, OFLOCET</a:t>
            </a:r>
            <a:r>
              <a:rPr b="0" lang="fr-FR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00 mg x 2/j PO ou IV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yélonéphrite aiguë non  compliquée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yélonéphrites aiguës compliquée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09280" y="2133720"/>
            <a:ext cx="8334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Uropathies malformatives, reflux vésico-urétéral, méga-uretère, obstacle sur les voies urinaire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Abcès rénal ou pararé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Greffé, immunodéprimé, diabète,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Antibiotiques utilisables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: ident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Durée :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3 semaines minimum (3-6 s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6600"/>
                </a:solidFill>
                <a:latin typeface="Times New Roman"/>
              </a:rPr>
              <a:t>Bithérapie d'emblée comportant un amino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6600"/>
                </a:solidFill>
                <a:latin typeface="Times New Roman"/>
              </a:rPr>
              <a:t>Traitement urologique associé si nécessaire :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drainage par néphrostomie ou abord chir. direct ; néphrectomie si pyonéphr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PROSTATIT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iguë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on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809640" y="23670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Times New Roman"/>
              </a:rPr>
              <a:t>IU nosocomi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Survenue + de 48h après l’admission à l’Hôpi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Sans son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Avec sonde U (acquisition lors de la mise en place, par voie endoluminale ou extraluminale, hématogèn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70160" y="60948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éfinitions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icrobiologie des prostatit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762120" y="223308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Prostatites primitives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(= rarement MS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E. coli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C. trachoma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ntérocoqu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- U. urealytic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Proteus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- M. homin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Staphylococcus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aureus  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- Gonoco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Prostatites post-opératoires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Klebsiella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- Pseudomo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Enterobacter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- Acinetobac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Serrat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876920" y="27432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876920" y="5262480"/>
            <a:ext cx="0" cy="106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aitement des prostatites (1)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09640" y="23670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Caractéristiques du traitement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iposolubilité, pH basique et spectre d'activit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Durée du traitement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rostatite aiguë : 4 sema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rostatite chronique: 12 sema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chémas thérapeutiqu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09640" y="190512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99"/>
                </a:solidFill>
                <a:uFillTx/>
                <a:latin typeface="Times New Roman"/>
              </a:rPr>
              <a:t>Prostatites aiguë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Q ou  C3G +/- aminosi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Q ou cyclines (si </a:t>
            </a:r>
            <a:r>
              <a:rPr b="0" i="1" lang="fr-FR" sz="2800" spc="-1" strike="noStrike">
                <a:solidFill>
                  <a:srgbClr val="ffffff"/>
                </a:solidFill>
                <a:latin typeface="Times New Roman"/>
              </a:rPr>
              <a:t>Chlamydia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trimoxazole (Si germe sensib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99"/>
                </a:solidFill>
                <a:uFillTx/>
                <a:latin typeface="Times New Roman"/>
              </a:rPr>
              <a:t>Prostatites chroniques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yclines (</a:t>
            </a:r>
            <a:r>
              <a:rPr b="0" i="1" lang="fr-FR" sz="2800" spc="-1" strike="noStrike">
                <a:solidFill>
                  <a:srgbClr val="ffffff"/>
                </a:solidFill>
                <a:latin typeface="Times New Roman"/>
              </a:rPr>
              <a:t>Chlamydia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trimoxazole (Si germe sensib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AS PARTICULIE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mme encei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ections sur son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mmes, enf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emme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nceint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2214360"/>
            <a:ext cx="845820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as de schéma dose un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Utilisation des antibiotiques autorisés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péni, céphalosporines, nitrofuranes si 2ème trim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Times New Roman"/>
              </a:rPr>
              <a:t>Bactériurie asymptomatique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: TT systématique de 10 j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Times New Roman"/>
              </a:rPr>
              <a:t>Cystite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(1,5 à 3,5%) : TT conventionn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Times New Roman"/>
              </a:rPr>
              <a:t>Pyélonéphrites (1 à 2%)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: privilégier les C3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près 1</a:t>
            </a:r>
            <a:r>
              <a:rPr b="1" lang="fr-FR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ère</a:t>
            </a:r>
            <a:r>
              <a:rPr b="1" lang="fr-F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infection ou bactériurie asymptomatique, réaliser 1 ECBU/mois</a:t>
            </a:r>
            <a:r>
              <a:rPr b="0" lang="fr-F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fr-F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ndant toute la grosses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fection urinaire sur sond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2133360"/>
            <a:ext cx="807732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Pas de traitement en l’absence de symptô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Si signes d'infection déclaré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traitement en fonction de la sensibilité des ger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i possible, arrêter le sondage; en cas d’impossibilité, changement de sonde sous traitement à discu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Germes isolés : </a:t>
            </a:r>
            <a:r>
              <a:rPr b="0" i="1" lang="fr-FR" sz="2800" spc="-1" strike="noStrike">
                <a:solidFill>
                  <a:srgbClr val="ffffff"/>
                </a:solidFill>
                <a:latin typeface="Times New Roman"/>
              </a:rPr>
              <a:t>E . coli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, Entérocoque, </a:t>
            </a:r>
            <a:r>
              <a:rPr b="0" i="1" lang="fr-FR" sz="2800" spc="-1" strike="noStrike">
                <a:solidFill>
                  <a:srgbClr val="ffffff"/>
                </a:solidFill>
                <a:latin typeface="Times New Roman"/>
              </a:rPr>
              <a:t>P.aeruginosa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fr-FR" sz="2800" spc="-1" strike="noStrike">
                <a:solidFill>
                  <a:srgbClr val="ffffff"/>
                </a:solidFill>
                <a:latin typeface="Times New Roman"/>
              </a:rPr>
              <a:t>Klebsiella sp, Enterobacter sp, Serratia sp, Candida sp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évention des infections sur son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09640" y="2900520"/>
            <a:ext cx="7958160" cy="31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ipulation asept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minuer le nombre et la durée des sondages urinai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tilisation de sachet anti-reflux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ection urinaire chez l’hom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Vérifier si atteinte primitive ou secondaire de la prostate (toucher rectal, écho. prostatiqu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Si prostatite associée, durée du traitement adapté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Débuter un bilan urologique dès le premier épisode d’infection urinaire sans prostatite primiti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UIV, scanner rénal, épreuves uro-dynamiques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28760" y="9140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éfinitions (3) :</a:t>
            </a: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Infections urinaires basses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 u="sng">
                <a:solidFill>
                  <a:srgbClr val="ffff66"/>
                </a:solidFill>
                <a:uFillTx/>
                <a:latin typeface="Times New Roman"/>
              </a:rPr>
              <a:t>Cystite aiguë simple</a:t>
            </a:r>
            <a:r>
              <a:rPr b="1" lang="fr-FR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(non compliqué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emme de 15-65 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Hors grossesse, IU récidivante, uropathie, diabète, immunodépression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Clinique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ignes 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: dysurie, pesanteur pelvienne, pollakiurie, pyurie, incontin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ignes 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: fièvre, douleurs lomba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Biologie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BU + (Nitrites 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Times New Roman"/>
              </a:rPr>
              <a:t>et/ou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leucocyt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CBU non indispens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tteinte du haut appareil possible dans 10 à 35% des cas surtout si évolution de la symptomatologie de plus de 7 jo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762120" y="2057400"/>
            <a:ext cx="79581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66"/>
                </a:solidFill>
                <a:uFillTx/>
                <a:latin typeface="Times New Roman"/>
              </a:rPr>
              <a:t>Cystites aiguës récidiva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lus de 4 cystites par 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O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 épisodes rapprochés de – de 3 mo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mplique : - ECBU systématique (avant et après T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- contre-indication TT min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- bilan urologique (à distance de l’I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- TT préventif des récid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66"/>
                </a:solidFill>
                <a:uFillTx/>
                <a:latin typeface="Times New Roman"/>
              </a:rPr>
              <a:t>Autres cystites compliqué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Homme, enfant, grossesse, uropathie, immunodépr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CBU systématique, TT conventionnel, +/- bilan urologiq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328760" y="91440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éfinitions (4) :</a:t>
            </a: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Infections urinaires basses</a:t>
            </a:r>
            <a:br>
              <a:rPr sz="44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914400" y="2090520"/>
            <a:ext cx="78487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99"/>
                </a:solidFill>
                <a:uFillTx/>
                <a:latin typeface="Times New Roman"/>
              </a:rPr>
              <a:t>Pyélonéphrites aiguës "simples" ou compliqu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inique : SFU + douleurs des fosses lombai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+ signes généraux (fièvre, frisso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 ECBU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99"/>
                </a:solidFill>
                <a:uFillTx/>
                <a:latin typeface="Times New Roman"/>
              </a:rPr>
              <a:t>Pyélonéphrites aiguës compliqu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Obstacle sur les voies urinaires, uropath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bcès parenchymateux ou pararé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99"/>
                </a:solidFill>
                <a:uFillTx/>
                <a:latin typeface="Times New Roman"/>
              </a:rPr>
              <a:t>Prostat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ostatite aiguë ou chron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imitive ou post-opératoi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1308240" y="9140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éfinitions (5) :</a:t>
            </a: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Infections urinaires hautes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AGNOSTI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6600"/>
                </a:solidFill>
                <a:latin typeface="Times New Roman"/>
              </a:rPr>
              <a:t>CLINIQUE  !!!!!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Biolog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Times New Roman"/>
              </a:rPr>
              <a:t>Bandelette U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(valeur prédictive négative de 98 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Nitrites reflets de la présence de bactéries productrices de nitrate réduct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NB: Pas de nitrate réductase chez les cocci Gram + (Entérocoque, Staphylocoque), BGN aérobies (</a:t>
            </a: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Pseudomonas sp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Nitrites négatifs à la B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Times New Roman"/>
              </a:rPr>
              <a:t>ECBU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fr-FR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ufc/ml (coliformes) ou </a:t>
            </a: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fr-FR" sz="20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ufc/ml (autres bactér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+ leucocyturie </a:t>
            </a: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fr-FR" sz="20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/m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Times New Roman"/>
              </a:rPr>
              <a:t>Syndrome inflammatoire biologique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: CRP </a:t>
            </a:r>
            <a:r>
              <a:rPr b="0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, VS </a:t>
            </a:r>
            <a:r>
              <a:rPr b="0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Times New Roman"/>
              </a:rPr>
              <a:t>Hyperleucocytose à PN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Imagerie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Echo +++, +/- doppler, scann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010280" y="510552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238880" y="524196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i IU hau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yélonéphrites et iconographi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68360" y="2362320"/>
            <a:ext cx="3816360" cy="335268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042560" y="5856120"/>
            <a:ext cx="182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canner ré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4800600" y="2341440"/>
            <a:ext cx="388620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Critères de choix de l’antibiotiqu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iveau d'infection bas ou ha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aractère communautaire ou nosocomial de l'inf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Type de germe en ca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aractère isolé ou récidivant de l'inf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Terrain sous-jac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thologique : uropathie, sonde à deme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hysiologique : grossesse, homme, enf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20:55:34Z</dcterms:created>
  <dc:creator>remy</dc:creator>
  <dc:description/>
  <dc:language>en-US</dc:language>
  <cp:lastModifiedBy>NONNENMM</cp:lastModifiedBy>
  <dcterms:modified xsi:type="dcterms:W3CDTF">2009-03-23T07:58:26Z</dcterms:modified>
  <cp:revision>108</cp:revision>
  <dc:subject/>
  <dc:title>TRAITEMENT ANTIBIOTIQUE DES INFECTIONS URINAIRES </dc:title>
</cp:coreProperties>
</file>